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634-B410-43FF-ABCB-5E15E5D9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AF5-E971-478D-9EC9-CF8A50B2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94B-1661-4F85-8A12-D9841046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71D-BF24-4DDA-BE79-28E6A185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401-E851-42AC-A2BD-6680B7E9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D8C-C156-448D-A6AC-B40A82E4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391-1C7D-4B92-B166-4DC3E10D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544-02A1-47F3-A47A-89D14994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AAC-85E2-4721-941E-8D391141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EF0-8B72-4EAF-83F1-6C8512F9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5CC-0A92-499F-ABD2-626B3619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431-91B3-48B4-AD9F-9F43E7AA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761F-F60D-4018-B7A9-0E96AE85D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  <a:ea typeface="Aharoni"/>
              </a:rPr>
              <a:t>Сложноподчинённые предложения с придаточными обстоятельственн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ть определение сложноподчинённого предложения с придаточным обстоятельств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упражнение№ 1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надцатое декабр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ко-орфографическая 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 выбира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ляни, как Пушкин вста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лковый и орфо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оя иг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1235160"/>
                <a:gridCol w="647640"/>
                <a:gridCol w="719280"/>
                <a:gridCol w="792000"/>
                <a:gridCol w="720720"/>
                <a:gridCol w="822240"/>
                <a:gridCol w="824040"/>
                <a:gridCol w="822240"/>
                <a:gridCol w="824040"/>
                <a:gridCol w="82224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русского язы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не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ф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ак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 предложения. Составь сложные предложения по началу, сх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желаю вам, чтоб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будет у вас день, которы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знания были впрок, следует повторить прошлы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о или неверно утверждение. Отвечать только «да» или «н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юзы ЧТО, ЕСЛИ, ГДЕ – подчинительные сою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не отвечает на вопрос Ч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– это синтаксическая един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ноподчинённое предложение состоит из главного и придаточн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– подчинительный сою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составное предложение может быть определённо - лич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ожносочинённом предложении все предложения равноп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едложении СДЕЛАНО ВСЁ, ЧТОБЫ Я МОГ ЖИТЬ СПОКОЙНО первая часть – придаточное пред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юзное слово не является членом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очное предложение может стоять только после главного пред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ите части сложного предложения из первого и второго столбика.Составьте схемы, определите вид придаточ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утром должен быть уверен      что он опаснейший чуд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евня                                         что с вами днём увижусь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голос все решили так             где скучал Евгений был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прелестный уго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предложение, подчеркните  грамматическую основу предложения, определите вид придаточ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ж падуч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небу темному ле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ассыпалась, тогда в смятенье Таня тороп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20 зимних пейзажей русских художников"/>
          <p:cNvPicPr/>
          <p:nvPr/>
        </p:nvPicPr>
        <p:blipFill>
          <a:blip r:embed="rId1"/>
          <a:stretch/>
        </p:blipFill>
        <p:spPr>
          <a:xfrm>
            <a:off x="2195640" y="404640"/>
            <a:ext cx="4680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08T06:07:05Z</dcterms:created>
  <dc:creator>Дом</dc:creator>
  <dc:description/>
  <dc:language>en-US</dc:language>
  <cp:lastModifiedBy>учитель</cp:lastModifiedBy>
  <dcterms:modified xsi:type="dcterms:W3CDTF">2024-12-09T07:21:16Z</dcterms:modified>
  <cp:revision>3</cp:revision>
  <dc:subject/>
  <dc:title>Сложноподчинённые предложения с придаточными обстоятельственными.</dc:title>
</cp:coreProperties>
</file>